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767-2371-4E90-8F33-D48BB530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E011-7482-46EB-9BBB-8AFC127E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570-F56C-4A55-AF6B-D7E58EF88C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D613-B384-42AD-8718-933B2CFE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9D1E-5808-4B14-9615-B178741F73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93F-6C99-4F11-9981-A11D36D3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F8D-6239-46D3-A8D5-7F2976A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30F-6969-4887-BFEA-A60B7F9C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E50-793D-4754-93C2-A269F1AC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A2B-5F43-4888-8EC0-29789093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AF3-5CAE-4A57-9635-5422063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22A-425F-429C-86EF-96BB1288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A9D-786B-492D-9154-84236F9B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733-86F0-4555-B366-CD679B08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0A4-237D-45A7-9D9C-6464090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166-A491-4DFD-87D0-B13968C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11C-2F4B-41C6-BDC6-E3E99845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usiongate_logo_large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324480" y="6035760"/>
            <a:ext cx="2438640" cy="61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3"/>
          <p:cNvGraphicFramePr/>
          <p:nvPr/>
        </p:nvGraphicFramePr>
        <p:xfrm>
          <a:off x="1981080" y="762120"/>
          <a:ext cx="506268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762120"/>
                    <a:ext cx="506268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632480" y="2554200"/>
            <a:ext cx="4243320" cy="2535480"/>
          </a:xfrm>
          <a:prstGeom prst="rect">
            <a:avLst/>
          </a:prstGeom>
          <a:ln w="0">
            <a:noFill/>
          </a:ln>
        </p:spPr>
      </p:pic>
      <p:sp>
        <p:nvSpPr>
          <p:cNvPr id="7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Adat\Munka\Fusiongate Kft\Dokumentációk\Screenshots\marketing-autoresponder3.jpg"/>
          <p:cNvPicPr/>
          <p:nvPr/>
        </p:nvPicPr>
        <p:blipFill>
          <a:blip r:embed="rId2"/>
          <a:stretch/>
        </p:blipFill>
        <p:spPr>
          <a:xfrm>
            <a:off x="4495680" y="3048120"/>
            <a:ext cx="4546800" cy="11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627440" y="2766960"/>
            <a:ext cx="4078440" cy="2249640"/>
          </a:xfrm>
          <a:prstGeom prst="rect">
            <a:avLst/>
          </a:prstGeom>
          <a:ln w="0">
            <a:noFill/>
          </a:ln>
        </p:spPr>
      </p:pic>
      <p:sp>
        <p:nvSpPr>
          <p:cNvPr id="7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Adat\Munka\Fusiongate Kft\Dokumentációk\Screenshots\marketing-integration.jpg"/>
          <p:cNvPicPr/>
          <p:nvPr/>
        </p:nvPicPr>
        <p:blipFill>
          <a:blip r:embed="rId2"/>
          <a:stretch/>
        </p:blipFill>
        <p:spPr>
          <a:xfrm>
            <a:off x="5410080" y="3048120"/>
            <a:ext cx="271800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sp>
        <p:nvSpPr>
          <p:cNvPr id="8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Helvetica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Helvetica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Helvetica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Adat\Munka\Fusiongate Kft\Dokumentációk\Screenshots\marketing-stats3-mod.jpg"/>
          <p:cNvPicPr/>
          <p:nvPr/>
        </p:nvPicPr>
        <p:blipFill>
          <a:blip r:embed="rId2"/>
          <a:stretch/>
        </p:blipFill>
        <p:spPr>
          <a:xfrm>
            <a:off x="4648320" y="2743200"/>
            <a:ext cx="4346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Fusiongate Opt-In Marketing Szoftve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E-mail marketing - egyszerű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1680" y="2620800"/>
            <a:ext cx="314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Használja a felhasználóbarát felületet, és rakja össze saját kampányát percek ala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Opt-In00043"/>
          <p:cNvPicPr/>
          <p:nvPr/>
        </p:nvPicPr>
        <p:blipFill>
          <a:blip r:embed="rId1"/>
          <a:stretch/>
        </p:blipFill>
        <p:spPr>
          <a:xfrm>
            <a:off x="4114800" y="1828800"/>
            <a:ext cx="47624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Felhasználók automatikus utánkövetés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571760" y="3859200"/>
            <a:ext cx="61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Automatikus utánkövető levél – egy bizonyos felhasználói magatartásra (pl. kattintott egyet egy kampányban) elküldött emailes tájékoztató. Írjon meg egy levélsorozatot egyszer, küldje el sokszor, megfelelő szünetekkel, automatizá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gram 6" descr=""/>
          <p:cNvPicPr/>
          <p:nvPr/>
        </p:nvPicPr>
        <p:blipFill>
          <a:blip r:embed="rId1"/>
          <a:stretch/>
        </p:blipFill>
        <p:spPr>
          <a:xfrm>
            <a:off x="420840" y="1785960"/>
            <a:ext cx="844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 Narrow"/>
              </a:rPr>
              <a:t>Ügyfelek gyűjtése webes űrlappa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Picture 7" descr="C:\Adat\Munka\Fusiongate Kft\Dokumentációk\Screenshots\fusiongate.hu-home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435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Narrow"/>
              </a:rPr>
              <a:t>Az okos választá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57200" y="1643040"/>
          <a:ext cx="6543720" cy="3541680"/>
        </p:xfrm>
        <a:graphic>
          <a:graphicData uri="http://schemas.openxmlformats.org/drawingml/2006/table">
            <a:tbl>
              <a:tblPr/>
              <a:tblGrid>
                <a:gridCol w="5259600"/>
                <a:gridCol w="1284120"/>
              </a:tblGrid>
              <a:tr h="350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őny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5a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jesen Web alap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uális szerkeszt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sználóbarát Email kampány készí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zált email köve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s statisztika és jelentéskészí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oldal integráció percek ala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re elkészített email sablon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gszabályoknak megfelel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Narrow"/>
              </a:rPr>
              <a:t>Megesszük, amit főztün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072040" y="2071800"/>
            <a:ext cx="357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A Fusiongate Opt-In Marketing Szoftver az egyetlen marketing szoftver, amelyet a saját belső listánkon a saját kampányaink menedzsmentjére is használunk – több ezer fős listákon, a fusiongate.hu–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Adat\Munka\Fusiongate Kft\Dokumentációk\Screenshots\marketing-lists5.jpg"/>
          <p:cNvPicPr/>
          <p:nvPr/>
        </p:nvPicPr>
        <p:blipFill>
          <a:blip r:embed="rId1"/>
          <a:stretch/>
        </p:blipFill>
        <p:spPr>
          <a:xfrm>
            <a:off x="838080" y="2133720"/>
            <a:ext cx="397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Az email marketing növeli a bevétel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7760" y="5643720"/>
            <a:ext cx="42861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z email hírlevelek szerepelnek az első helyen</a:t>
            </a: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 Jakob N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el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10 High-Profit Redesign Prioritie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” listáj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786120" y="1500120"/>
            <a:ext cx="4357800" cy="4100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685800" y="1905120"/>
            <a:ext cx="2786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Ha egy cégnek nincs hírlevele, ennek elkészítése a leggyorsabban megtérülő döntés, amellyel az internetes jelenléte növelhető.</a:t>
            </a: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- Jakob Nielsen's Alertbox, </a:t>
            </a: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2007 március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Növelje bevételeit a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Fusiongate Opt-In Marketing Szoftverr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Diagram 5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Vállalata a</a:t>
            </a:r>
            <a:r>
              <a:rPr b="0" lang="en-A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Fusiongate Opt-In Marketing Szoftverr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28440" y="1600200"/>
            <a:ext cx="77864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Az opt-in marketing támogatás hatására a közvetlen eladás jelentős mértékben növekszik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Nő a megkeresések mennyisége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Erősebb kapcsolat az ügyfelekkel, nő a bizalom a cég f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Az érdeklődőkből könnyebben lesz vásár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Pontos visszajelzés az email kampányok eredményeiről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Narrow"/>
              </a:rPr>
              <a:t>Díjszabá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1517760"/>
          <a:ext cx="7257960" cy="4273560"/>
        </p:xfrm>
        <a:graphic>
          <a:graphicData uri="http://schemas.openxmlformats.org/drawingml/2006/table">
            <a:tbl>
              <a:tblPr/>
              <a:tblGrid>
                <a:gridCol w="1814400"/>
                <a:gridCol w="1814400"/>
                <a:gridCol w="1814760"/>
                <a:gridCol w="18144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siongate Opt-In Marketing Szoft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M rendszer és a legtöbb konkurrens hosted megold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zető nyílt forráskódú alternatí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5a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re elkészített email sablon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a utánkövető e-mail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gyfél-támogatás, speciális opt-in szolgáltatás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 email-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yon mély szintű statisztikai jele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0 email ára/hó, 12 hóna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 Ft / hó-t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 Ft / hó-t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Narrow"/>
              </a:rPr>
              <a:t>Mi tartja vissza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371600"/>
            <a:ext cx="7696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ikor akar ingyen marketing kampányt indíta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ikor akarja elkezdeni az ügyfélbizalom építésé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ikor akar automatikusan vásárlót csinálni az érdeklődőkbő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ikor akarja weboldalát potenciális érdeklődő vásárlók gyűjtésére használ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Narrow"/>
              </a:rPr>
              <a:t>Mi tartja vissza, hogy élvezze mindezeket az előnyöket, most azon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Narrow"/>
              </a:rPr>
              <a:t>Köszönöm a figyelmet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hu-H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problém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15998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Hogyan használható az emailek alacsony költsége arra, h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Biztos kapcsolatot építsen az ügyfelekkel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Növelje a szolgáltatások, termékek eladását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(upselling, cross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Folyamatos új megkereséseket eredményez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Automatizálja marketing kampány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Fillérekért készíthessen marketing kampány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A megoldás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: Email Marketing S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zoftver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914400" y="1670040"/>
            <a:ext cx="69674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Narrow"/>
              </a:rPr>
              <a:t>Email Marketing S</a:t>
            </a: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zoftv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1357200"/>
            <a:ext cx="78865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Kezelje professzionálisan a címzetteiről készült listáit, és a róluk tárolt információk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Készítse el, és küldje ki email kampányait formázott szöveggel, képekkel és hivatkozásokkal ellá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Tegye személyessé a leveleket az egyedi megszólításokkal: „Kedves Barátunk” helyett „Kedves Eugén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Használjon feltételes utánkövető emaileket és ezáltal kövesse nyomon ügyfeleit automatiku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Küldjön megfelelően pozícionált leveleket a különböző vásárlói körök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Integrálja a megoldást weblapjára és kezdje a potenciális ügyfelek gyűjtését azon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Kövesse a címzettei magatartását és az email statisztikák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Kezelje a fel és leiratkozásokat és a visszapattanó leveleket megfelelő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Megoldási lehetősége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Kiépítheti a saját egyedi megoldás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Költsé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Túl sok időt vesz igény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Nincs meg a megfelelő tapasztalat a területe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Használhat már létező eszközöket – pl.: Microsoft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Nem kezeli a fel- és leiratkozások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Nem készít statisztik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Nincsen nyomonkövetés és visszajel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Nincs automatikus utánkövető emailre lehetőség a megfelelő érdeklődők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Kiszervezheti a felada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Narrow"/>
              </a:rPr>
              <a:t>Túl költsé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Amire szüksége van:</a:t>
            </a:r>
            <a:r>
              <a:rPr b="0" lang="en-A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Fusiongate Opt-In Marketing Szoftv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Web alapú szoftver, mellyel egy email kampány elkészítése kézenfekvő fel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Egyszerű szerkesztés: ha tudja használni a Microsoft Word-öt, nem lesz problémája a Fusiongate Opt-In Marketing Szoftverrel sem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Automatikus utánkövető emailek az érdeklődőkkel való megfelelő kommunikáció biztosítás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Intelligens kampány követés és jelentés kész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Célzott levelek a meghatározott paraméterekkel rendelkező csoportoknak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Narrow"/>
              </a:rPr>
              <a:t>Minden benne van, amire szüksége lehet a hatékony email marketing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268200" y="1828800"/>
            <a:ext cx="4151520" cy="4078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" name="Picture 5" descr="C:\Adat\Munka\Fusiongate Kft\Dokumentációk\Screenshots\marketing-lists.jpg"/>
          <p:cNvPicPr/>
          <p:nvPr/>
        </p:nvPicPr>
        <p:blipFill>
          <a:blip r:embed="rId2"/>
          <a:stretch/>
        </p:blipFill>
        <p:spPr>
          <a:xfrm>
            <a:off x="5181480" y="2819520"/>
            <a:ext cx="3505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268200" y="1816200"/>
            <a:ext cx="4151520" cy="4071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559400" y="2341440"/>
            <a:ext cx="4103640" cy="3035520"/>
          </a:xfrm>
          <a:prstGeom prst="rect">
            <a:avLst/>
          </a:prstGeom>
          <a:ln w="0">
            <a:noFill/>
          </a:ln>
        </p:spPr>
      </p:pic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Teljes 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Email Marketing </a:t>
            </a:r>
            <a:r>
              <a:rPr b="0" lang="hu-HU" sz="3600" spc="-1" strike="noStrike">
                <a:solidFill>
                  <a:srgbClr val="000000"/>
                </a:solidFill>
                <a:latin typeface="Arial Narrow"/>
              </a:rPr>
              <a:t>Megol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3:15:33Z</dcterms:created>
  <dc:creator>Rácz Bencze</dc:creator>
  <dc:description/>
  <dc:language>en-US</dc:language>
  <cp:lastModifiedBy>Rácz Bencze</cp:lastModifiedBy>
  <dcterms:modified xsi:type="dcterms:W3CDTF">2009-02-15T21:27:40Z</dcterms:modified>
  <cp:revision>133</cp:revision>
  <dc:subject/>
  <dc:title>Fusiongate Opt-In Marketing Szoftver</dc:title>
</cp:coreProperties>
</file>