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5E3-E127-47DE-8E4C-398779F9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F27-2470-44F6-9181-30FDEA07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07C-9E71-48BF-90AE-F9B131D5A7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EB22-0198-4A0C-A9AE-04211D90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AC8-D221-4F28-8FC1-16CC31C308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7ED-1E5F-44F0-8FCA-E8D48D30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A79-5736-47D1-9C1D-0D338F1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4E3-D3B7-4A78-A935-46958912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0EB-AFF7-4047-8B94-4C668D44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479-FC13-4A97-9290-5DB9678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C3A-DD91-49B6-8501-534FD47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84C-5CCF-4FC8-AC06-5C66B91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71E-AD5E-4B78-909A-62605B4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A66-F53F-41C7-B057-27B9BBB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E7D-D2C6-4B5D-B64F-44C705E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FAB-E283-4550-83EA-CB71DEA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F2A-392D-4B2B-9E81-6EBCBC0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usiongate_logo_large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324480" y="6035760"/>
            <a:ext cx="2438640" cy="61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3"/>
          <p:cNvGraphicFramePr/>
          <p:nvPr/>
        </p:nvGraphicFramePr>
        <p:xfrm>
          <a:off x="2960640" y="1631880"/>
          <a:ext cx="343080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0640" y="1631880"/>
                    <a:ext cx="343080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zövegdoboz 3"/>
          <p:cNvSpPr/>
          <p:nvPr/>
        </p:nvSpPr>
        <p:spPr>
          <a:xfrm>
            <a:off x="762120" y="533520"/>
            <a:ext cx="784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siongate Ltd. Software Development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pt-In Marketing Softw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zövegdoboz 4"/>
          <p:cNvSpPr/>
          <p:nvPr/>
        </p:nvSpPr>
        <p:spPr>
          <a:xfrm>
            <a:off x="3733920" y="5105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cause quality 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4632480" y="2554200"/>
            <a:ext cx="4243320" cy="253548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D:\Munka\Fusiongate Kft\Dokumentációk\Screenshots\marketing-autoresponder-en.png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27440" y="2766960"/>
            <a:ext cx="4078440" cy="224964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:\Munka\Fusiongate Kft\Dokumentációk\Screenshots\marketing-integration-en.jpg"/>
          <p:cNvPicPr/>
          <p:nvPr/>
        </p:nvPicPr>
        <p:blipFill>
          <a:blip r:embed="rId2"/>
          <a:stretch/>
        </p:blipFill>
        <p:spPr>
          <a:xfrm>
            <a:off x="5486400" y="3200400"/>
            <a:ext cx="266688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8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D:\Munka\Fusiongate Kft\Dokumentációk\Screenshots\marketing-stats-en.png"/>
          <p:cNvPicPr/>
          <p:nvPr/>
        </p:nvPicPr>
        <p:blipFill>
          <a:blip r:embed="rId2"/>
          <a:stretch/>
        </p:blipFill>
        <p:spPr>
          <a:xfrm>
            <a:off x="4572000" y="2743200"/>
            <a:ext cx="423864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Fusiongate Opt-In Marketing Softwar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Makes Email Marketing a Breez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71680" y="262080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Use the step-by-step email creation wizard to create compelling email campaigns in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Opt-In00046"/>
          <p:cNvPicPr/>
          <p:nvPr/>
        </p:nvPicPr>
        <p:blipFill>
          <a:blip r:embed="rId1"/>
          <a:stretch/>
        </p:blipFill>
        <p:spPr>
          <a:xfrm>
            <a:off x="4419720" y="1981080"/>
            <a:ext cx="424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Follow up with prospects – Automatically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371600" y="38592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Using auto-responders, you can send emails to your prospects sequentially and automatically.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rite the email once and send it many times -</a:t>
            </a: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6" descr=""/>
          <p:cNvPicPr/>
          <p:nvPr/>
        </p:nvPicPr>
        <p:blipFill>
          <a:blip r:embed="rId1"/>
          <a:stretch/>
        </p:blipFill>
        <p:spPr>
          <a:xfrm>
            <a:off x="420840" y="1785960"/>
            <a:ext cx="844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Generate Sales Leads Directly From Your Websi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4" descr="D:\Munka\Fusiongate Kft\Dokumentációk\Screenshots\fusiongate.com-home.jpg"/>
          <p:cNvPicPr/>
          <p:nvPr/>
        </p:nvPicPr>
        <p:blipFill>
          <a:blip r:embed="rId1"/>
          <a:stretch/>
        </p:blipFill>
        <p:spPr>
          <a:xfrm>
            <a:off x="1981080" y="1219320"/>
            <a:ext cx="5045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he Smart Choic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7200" y="1643040"/>
          <a:ext cx="6543720" cy="3541680"/>
        </p:xfrm>
        <a:graphic>
          <a:graphicData uri="http://schemas.openxmlformats.org/drawingml/2006/table">
            <a:tbl>
              <a:tblPr/>
              <a:tblGrid>
                <a:gridCol w="5259600"/>
                <a:gridCol w="1284120"/>
              </a:tblGrid>
              <a:tr h="350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5a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ly Web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 to use WYSIWYG Ed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by Step Easy Email Campaign Cre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Follow Up Em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ghtful Statistics and Repor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o Your Website in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designed Email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 Legislation Compli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We Eat Our Own Dog Foo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800600" y="2209680"/>
            <a:ext cx="3843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usiongate Opt-In Marketing Software </a:t>
            </a:r>
            <a:r>
              <a:rPr b="0" lang="hu-HU" sz="2100" spc="-1" strike="noStrike">
                <a:solidFill>
                  <a:srgbClr val="000000"/>
                </a:solidFill>
                <a:latin typeface="Arial Narrow"/>
              </a:rPr>
              <a:t>is the only email marketing software we trust to manage our 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own </a:t>
            </a:r>
            <a:r>
              <a:rPr b="0" lang="hu-HU" sz="2100" spc="-1" strike="noStrike">
                <a:solidFill>
                  <a:srgbClr val="000000"/>
                </a:solidFill>
                <a:latin typeface="Arial Narrow"/>
              </a:rPr>
              <a:t>email marketing and auto follow up campaigns on 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usionga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D:\Munka\Fusiongate Kft\Dokumentációk\Screenshots\marketing-lists2-en.png"/>
          <p:cNvPicPr/>
          <p:nvPr/>
        </p:nvPicPr>
        <p:blipFill>
          <a:blip r:embed="rId1"/>
          <a:stretch/>
        </p:blipFill>
        <p:spPr>
          <a:xfrm>
            <a:off x="1066680" y="2438280"/>
            <a:ext cx="346716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Email marketing increases revenu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57760" y="5643720"/>
            <a:ext cx="42861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mail Newsletters listed as #1 on Jakob Nelson’s list</a:t>
            </a:r>
            <a:br>
              <a:rPr sz="900"/>
            </a:b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“ 10 High-Profit Redesign Priorities 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786120" y="1500120"/>
            <a:ext cx="4357800" cy="4100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85800" y="1905120"/>
            <a:ext cx="278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If you don’t have a newsletter, then publishing one is probably the single-highest ROI action you can take to improve your Internet presence.</a:t>
            </a: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- Jakob Nielsen's Alertbox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        March 12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Increase Your Revenue With Fusiongate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Opt-In Marketing Softwa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Diagram 5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Your Business With Fusiongate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Opt-In Marketing Softwa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28440" y="1600200"/>
            <a:ext cx="77864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Your direct sales increased by up to 50%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Increased sales lead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tronger customer relationship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Prospects converted to customers automatically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Immediate results on marketing campaign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Pric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1517760"/>
          <a:ext cx="7257960" cy="4292640"/>
        </p:xfrm>
        <a:graphic>
          <a:graphicData uri="http://schemas.openxmlformats.org/drawingml/2006/table">
            <a:tbl>
              <a:tblPr/>
              <a:tblGrid>
                <a:gridCol w="1814400"/>
                <a:gridCol w="1814400"/>
                <a:gridCol w="1814760"/>
                <a:gridCol w="181440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siongate Opt-In Marketing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M system and most concurring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ing Open Source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designed Email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Follow Up Em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support, special opt-in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zed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deep statistics and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for 2500 Emails Per Month Over 12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s then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$50 /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$500 /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What’s Holding You Back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3712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do you want to leverage the low cost of email to run effective marketing campaign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do you want to start building stronger relationships with your customer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do you want to turn prospects into customers – automatical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do you want to turn your website into a sales lead generating machin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’s stopping you from enjoying these benefits righ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360" y="159984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How can you leverage the low cost of email to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Build solid relationships with your customers and prospect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Up sell / cross sell additional products or service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Generate consistent lead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Automate your marketing campaign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Create marketing campaigns on shoestring budget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he solution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: Email Marketing S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oftwa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914400" y="1670040"/>
            <a:ext cx="69372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S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oftwa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57200"/>
            <a:ext cx="830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Manage your list of customers and prospects and their information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Easily create and send email campaigns with rich text formatting, images and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Personalizes each email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so emails are addressed as: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“Dear Richard” instead of “Dear Frie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Use auto responders to automatically follow up with prospect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Send highly targeted emails to specific customers and prospect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Integrates with your website to collect leads in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Automatically tracks customer behavior and emai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Your Opt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Build your own custom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Too costly + time consuming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se existing tools such as Microsoft 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Does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 not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manage your subscriptions and unsubscribe requests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No statistics or email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No automated follow up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Outsource to a thir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Too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You Need: Fusiongate </a:t>
            </a:r>
            <a:br>
              <a:rPr sz="3600"/>
            </a:br>
            <a:r>
              <a:rPr b="0" lang="hu-HU" sz="3000" spc="-1" strike="noStrike">
                <a:solidFill>
                  <a:srgbClr val="000000"/>
                </a:solidFill>
                <a:latin typeface="Arial Narrow"/>
              </a:rPr>
              <a:t>Opt-In Marketing Softwa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Web based software application that makes email marketing a breeze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Easy step-by-step email campaign creation. If you can use Microsoft Word, you can use </a:t>
            </a: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Fusiongate Opt-In Marketing Software</a:t>
            </a: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Built-in auto responders allow automatic email follow ups to your prospects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Insightful campaign tracking and reporting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Send Targeted Emails to Specific Customers and Prospect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Full featured. Everything you need to run effective email marketing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68200" y="1828800"/>
            <a:ext cx="4151520" cy="4078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" name="Picture 5" descr="D:\Munka\Fusiongate Kft\Dokumentációk\Screenshots\marketing-lists-en.png"/>
          <p:cNvPicPr/>
          <p:nvPr/>
        </p:nvPicPr>
        <p:blipFill>
          <a:blip r:embed="rId2"/>
          <a:stretch/>
        </p:blipFill>
        <p:spPr>
          <a:xfrm>
            <a:off x="5486400" y="3048120"/>
            <a:ext cx="26002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559400" y="2341440"/>
            <a:ext cx="4103640" cy="3035520"/>
          </a:xfrm>
          <a:prstGeom prst="rect">
            <a:avLst/>
          </a:prstGeom>
          <a:ln w="0">
            <a:noFill/>
          </a:ln>
        </p:spPr>
      </p:pic>
      <p:sp>
        <p:nvSpPr>
          <p:cNvPr id="7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ll-In-One Email Market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3:15:33Z</dcterms:created>
  <dc:creator>Rácz Bencze</dc:creator>
  <dc:description/>
  <dc:language>en-US</dc:language>
  <cp:lastModifiedBy>Rácz Bencze</cp:lastModifiedBy>
  <dcterms:modified xsi:type="dcterms:W3CDTF">2009-03-11T09:12:34Z</dcterms:modified>
  <cp:revision>149</cp:revision>
  <dc:subject/>
  <dc:title>Fusiongate Opt-In Marketing Szoftver</dc:title>
</cp:coreProperties>
</file>